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90106"/>
        <c:axId val="69118654"/>
      </c:barChart>
      <c:catAx>
        <c:axId val="79490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18654"/>
        <c:crosses val="autoZero"/>
        <c:auto val="1"/>
        <c:lblAlgn val="ctr"/>
        <c:lblOffset val="100"/>
        <c:noMultiLvlLbl val="0"/>
      </c:catAx>
      <c:valAx>
        <c:axId val="69118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0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EC0-5AB5-4D9F-86A3-A329AB2D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A2C-3B53-4EDE-AEAF-92FA8223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FD6-39C0-4F05-8730-8BCAD711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21E-6033-4207-B2F0-1639C98E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167-E114-401F-9B9D-29C3621D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424-15F0-43A5-9833-BAC397FF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191-6ED7-4D17-9678-C39197D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0AA-A9D5-4AEA-9B31-6CDEDCC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79A-6E05-41CB-A273-9486D29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4D1-7FC9-415E-9A4B-FB157D0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8FF-F18A-4EB5-A5A2-E642C6F4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FD0-701B-43E9-91F0-03B531F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9941B-9366-4D65-BA5F-923CB0801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