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51918"/>
        <c:axId val="5829504"/>
      </c:barChart>
      <c:catAx>
        <c:axId val="40451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9504"/>
        <c:crosses val="autoZero"/>
        <c:auto val="1"/>
        <c:lblAlgn val="ctr"/>
        <c:lblOffset val="100"/>
        <c:noMultiLvlLbl val="0"/>
      </c:catAx>
      <c:valAx>
        <c:axId val="5829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51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C13-1282-4FF0-AE8E-C5B42473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5D7-0745-4EBE-BC40-AC12A13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DBF-02CA-411F-A0A4-0716FA51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3D5-08B1-46B0-BBBE-FB34021D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9AE-6BD6-441A-A3B7-CA9ABE28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4AA-4E20-4FFA-AFD2-AD2C667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31B-3361-495E-B9BE-74AAEB3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FE9-11E3-443A-A764-7C97602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1DF-1118-41BD-AFBE-7DEF3737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5F1-BEAD-443B-B8D3-314A848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329-7541-4CC7-9F2C-FF15D58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477-F0B9-4909-8448-82476F0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5248-7F91-4826-83F9-84DFCDC24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