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87374"/>
        <c:axId val="60969951"/>
      </c:barChart>
      <c:catAx>
        <c:axId val="41087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69951"/>
        <c:crosses val="autoZero"/>
        <c:auto val="1"/>
        <c:lblAlgn val="ctr"/>
        <c:lblOffset val="100"/>
        <c:noMultiLvlLbl val="0"/>
      </c:catAx>
      <c:valAx>
        <c:axId val="60969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7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6B1-6B3C-447A-B7CC-C4BF986A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712-E960-4265-872C-D236F37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1A1-A229-4BE3-B74D-B6600D4E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6A8-22BC-4BB9-AD50-67B7201E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DBD-496C-4A22-963D-76A0D43D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A61-ED19-429F-BABC-9E3BC4B5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052-EC41-409F-B3F5-40A48FB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5B7-FD04-406E-B34E-FF59BB4D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F2B-634B-494F-AF42-370966D0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9FC-250B-457B-9945-D05C4982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D4A-3716-4002-B157-FEE8B9A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62E-0EDC-4D6A-BF94-A9D7049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E07B-8603-4683-9BF4-1DC66ACE0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