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413945"/>
        <c:axId val="8405310"/>
      </c:barChart>
      <c:catAx>
        <c:axId val="294139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05310"/>
        <c:crosses val="autoZero"/>
        <c:auto val="1"/>
        <c:lblAlgn val="ctr"/>
        <c:lblOffset val="100"/>
        <c:noMultiLvlLbl val="0"/>
      </c:catAx>
      <c:valAx>
        <c:axId val="84053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4139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E985-329E-4CA5-BB2F-2360EE197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A682-3676-4C27-A3ED-D6E768A7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519A-7EB6-4361-ADEB-BC4B60110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622A-B34D-4902-9DA6-B5DDC0C90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8771-3906-46AA-95D8-A2094945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0DA8-A707-4141-9D8D-764BD957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45A6-8560-46DF-8B03-9B6D1D8D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37A9-CD2F-47A5-900E-1BD6CBF9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E143-094D-44E8-A781-A144FCF1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2447-AFD0-4B63-9F8A-964F1E26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82E3-D3C3-404E-A969-32678167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6116-B53A-4C61-BB2A-7B97E724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063B9D-8A97-4AD1-BB6A-6DA3D19E5D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